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35938"/>
        <c:axId val="72221773"/>
      </c:barChart>
      <c:catAx>
        <c:axId val="68735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21773"/>
        <c:crosses val="autoZero"/>
        <c:auto val="1"/>
        <c:lblAlgn val="ctr"/>
        <c:lblOffset val="100"/>
        <c:noMultiLvlLbl val="0"/>
      </c:catAx>
      <c:valAx>
        <c:axId val="72221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35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597-ACB4-43AC-BE49-62CA4B0E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497-97C1-4601-89FE-229270E7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671-F84B-4CBF-8EEA-EA83CF5B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FDB-5A4C-4520-BB66-F3A48517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C2E-4B80-420F-91FA-DEA93421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8EA-D2F0-42DB-81F0-551BF720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60B-BA22-4ACE-A098-374CEF7A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975-B6C0-4B63-B021-C4EE419A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429-D608-45E7-AF46-8D40E919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52B-C79D-4E07-B9E6-BE24440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DA8-499D-4C6E-B04F-C3D111A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387-4D22-4A15-9197-1BED2AAA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18F52-E00B-486D-92B6-5405A06D16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