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758708"/>
        <c:axId val="91253833"/>
      </c:barChart>
      <c:catAx>
        <c:axId val="357587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253833"/>
        <c:crosses val="autoZero"/>
        <c:auto val="1"/>
        <c:lblAlgn val="ctr"/>
        <c:lblOffset val="100"/>
        <c:noMultiLvlLbl val="0"/>
      </c:catAx>
      <c:valAx>
        <c:axId val="912538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7587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8EC8-22A5-457A-9749-0887447BD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101A-27F8-499C-9DE9-A2B349764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41E3-600C-4EF7-8639-497EA4FA4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245D-8906-44D3-A09C-6B01EF7B4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0AA4-8928-4639-81EC-9ABF3859B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EF0F-C2A1-42AF-AACC-B0CEE43E1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D24B-6D1A-47B6-9040-E373B6E85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00F4-8080-480C-81C5-4B2AEF136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DAD3-F196-4F5C-B71F-5B3B0BC42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18EA-3CFC-46B7-BD73-1249374B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486E-4B58-4745-9710-4A9BDE73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5116-47D1-44E1-84C5-26D55B5B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6775F4-346C-4FCD-886A-A49EBE55235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