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935105"/>
        <c:axId val="59721367"/>
      </c:barChart>
      <c:catAx>
        <c:axId val="979351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721367"/>
        <c:crosses val="autoZero"/>
        <c:auto val="1"/>
        <c:lblAlgn val="ctr"/>
        <c:lblOffset val="100"/>
        <c:noMultiLvlLbl val="0"/>
      </c:catAx>
      <c:valAx>
        <c:axId val="597213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351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A563-C63C-4493-BC7E-C44527C39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3658-16FB-4972-A4DF-C39B5B75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CE7D-FF2A-417C-A42E-DA0E057D3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D97E-0837-40BF-A5A7-4DA6584FF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EE75-0C0D-4862-BF38-DB514A22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7F57-24DD-4897-B101-884C6A4A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66F2-5077-4C6B-94A9-DC5577EC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6482-A702-4F26-AEE2-B7872E1D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5663-77C1-4777-884D-E7A358D5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2E81-D53D-4A6A-9C82-A8795083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2995-6101-4D0A-89F0-E62A948B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140D-23AD-4813-A68A-3D09E946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8911A-0239-4BF6-A5DC-20DC5B6615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